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6.pct" ContentType="image/x-pict"/>
  <Override PartName="/ppt/media/image15.pct" ContentType="image/x-pict"/>
  <Override PartName="/ppt/media/image13.pct" ContentType="image/x-pict"/>
  <Override PartName="/ppt/media/image1.jpeg" ContentType="image/jpeg"/>
  <Override PartName="/ppt/media/image2.pct" ContentType="image/x-pict"/>
  <Override PartName="/ppt/media/image14.pct" ContentType="image/x-pict"/>
  <Override PartName="/ppt/media/image3.png" ContentType="image/png"/>
  <Override PartName="/ppt/media/clap.wav" ContentType="audio/x-wav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0FF9-6FE3-4C35-9D2B-CD7EC8F4E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address middle school students with a working knowledge of nouns, pronouns, verbs, adjectives, adverbs, articles and conjunctions as well as an understanding of simple and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-Eg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-Eg Strategy (Deduc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411-111F-4966-83C0-6F1D58D3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043-FDE9-43E5-B3F9-2FD5CEC6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58B-DC24-4DBE-BA72-CEF8B994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5F7-79E1-4506-B6CE-81AF205E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168F-7EC7-4D88-8B96-F6AB5E88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4FAD-5CA3-4847-A97B-9CC900BF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ADDA-3511-4DD9-83AB-8D7A9C4D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FBD9-1113-4DAA-88E6-EC9B94C9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7879-E0BD-45F7-9527-FE5F4173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7BCE-6D8E-4CD7-ABAA-859E5400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C9EE-038D-48BC-A825-C0D58B14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C41-B674-4781-A341-9AA65B3C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88A4-0589-4D78-B8E2-3E249CF7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1FCE-671C-4475-9695-F6AAD02D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7C21-65A5-4195-A150-523DAA03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4A4-DADA-4FED-BEE3-1B41356A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03CE-D9FF-4DDB-9CDD-791BCB78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1E6-1F13-45A9-B78E-75EEF7EA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B47-6334-401D-BA0E-C41BF38C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CA6-C4BB-41D1-B623-BA49D6D9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5FD-EA4D-4F19-A58C-A823E69C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EB2-55BD-4A98-A5AB-92161786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F21-F846-41A3-BE18-733B962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8CA-32BA-48E9-8117-F6E48CD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4E36-FD8D-494D-807D-6F70FAB9B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7772400" cy="5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08F5-816A-44AC-9072-16A6135FD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6.xml"/><Relationship Id="rId7" Type="http://schemas.openxmlformats.org/officeDocument/2006/relationships/image" Target="../media/image9.pct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0.xml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9.xml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image" Target="../media/image14.pct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2.xml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6.xml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5.xml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4.pct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6.xml"/><Relationship Id="rId8" Type="http://schemas.openxmlformats.org/officeDocument/2006/relationships/image" Target="../media/image7.pct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PREPOSITION POWER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99840" y="35049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here to star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77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2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133720"/>
            <a:ext cx="693432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ord is a prepos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girl by the door is my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1066680" y="5181480"/>
            <a:ext cx="6782040" cy="474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eck the list of preposi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1809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9810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are related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EPOSITION POW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2506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here to try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6576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here to check the list of prepositions before trying ag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09680"/>
            <a:ext cx="693432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ord is a prepos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runners raced around the 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99072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27432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4" action="ppaction://hlinksldjump"/>
          </p:cNvPr>
          <p:cNvSpPr/>
          <p:nvPr/>
        </p:nvSpPr>
        <p:spPr>
          <a:xfrm>
            <a:off x="45720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5" action="ppaction://hlinksldjump"/>
          </p:cNvPr>
          <p:cNvSpPr/>
          <p:nvPr/>
        </p:nvSpPr>
        <p:spPr>
          <a:xfrm>
            <a:off x="6400800" y="426708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1066680" y="5181480"/>
            <a:ext cx="6782040" cy="474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eck the list of preposi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934320" y="1905120"/>
            <a:ext cx="1763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9810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are related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EPOSITION POW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1371600" y="2506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3" action="ppaction://hlinksldjump"/>
              </a:rPr>
              <a:t>Click here to try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1295280" y="36576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here to check the list of prepositions before trying ag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2286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look again at the sentences you practic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izza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oven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irl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door is my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nners raced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r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tr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2: Prepositional Phrases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620120" y="54100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2: Prepositional Phrases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981080"/>
            <a:ext cx="5639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o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d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ound the t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114800"/>
            <a:ext cx="7467480" cy="12366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se are prepositional phrases. Prepositional phrases start with a preposition and end with the object of a prepo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620120" y="54100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3: Object of a Preposition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057400"/>
            <a:ext cx="5257800" cy="2016360"/>
          </a:xfrm>
          <a:prstGeom prst="rect">
            <a:avLst/>
          </a:prstGeom>
          <a:noFill/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object of a preposi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ust be a noun or a pronou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ways comes at the end of a prepositional phr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648320"/>
            <a:ext cx="815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267080"/>
            <a:ext cx="70866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 The cookies are </a:t>
            </a: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in the ov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ven is a noun that ends the prepositional phrase. Oven is the object of the preposi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29400" y="2057400"/>
            <a:ext cx="2054160" cy="2438280"/>
          </a:xfrm>
          <a:prstGeom prst="rect">
            <a:avLst/>
          </a:prstGeom>
          <a:ln w="0">
            <a:noFill/>
          </a:ln>
        </p:spPr>
      </p:pic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7620120" y="54100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4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at with my m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2666880" y="3809880"/>
            <a:ext cx="25909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2666880" y="4648320"/>
            <a:ext cx="25909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2666880" y="5486400"/>
            <a:ext cx="25909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my m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410080" y="2133720"/>
            <a:ext cx="2952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1940040"/>
            <a:ext cx="7467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eposition is a part of speech that shows a relationship between two th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(on, under, 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(before, after, du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 (from, toward, to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429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876920"/>
            <a:ext cx="4572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You found the prepositional phras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391520" y="51814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22716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 a prepositional phrase starts with a preposition 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check list aga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and ends with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3" action="ppaction://hlinksldjump"/>
          </p:cNvPr>
          <p:cNvSpPr/>
          <p:nvPr/>
        </p:nvSpPr>
        <p:spPr>
          <a:xfrm>
            <a:off x="2362320" y="5257800"/>
            <a:ext cx="4343400" cy="550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y the question again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6705720" y="2133720"/>
            <a:ext cx="174600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5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prepositional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fter gym class, we got a dr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1905120" y="3809880"/>
            <a:ext cx="396216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gy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1905120" y="4648320"/>
            <a:ext cx="396216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gym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4" action="ppaction://hlinksldjump"/>
          </p:cNvPr>
          <p:cNvSpPr/>
          <p:nvPr/>
        </p:nvSpPr>
        <p:spPr>
          <a:xfrm>
            <a:off x="1905120" y="5486400"/>
            <a:ext cx="396216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gym class, 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6705720" y="2743200"/>
            <a:ext cx="1676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You found the prepositional phras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391520" y="51814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22716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 a prepositional phrase starts with a preposition 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check list aga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and ends with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2362320" y="5257800"/>
            <a:ext cx="4343400" cy="550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y the question again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6705720" y="2133720"/>
            <a:ext cx="174600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6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prepositional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chose a book from the libr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2666880" y="3809880"/>
            <a:ext cx="39625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se a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2666880" y="4648320"/>
            <a:ext cx="39625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k from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4" action="ppaction://hlinksldjump"/>
          </p:cNvPr>
          <p:cNvSpPr/>
          <p:nvPr/>
        </p:nvSpPr>
        <p:spPr>
          <a:xfrm>
            <a:off x="2666880" y="5486400"/>
            <a:ext cx="396252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858000" y="1905120"/>
            <a:ext cx="1785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You found the prepositional phras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391520" y="51814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419720" y="2133720"/>
            <a:ext cx="22716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5715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: a prepositional phrase starts with a preposition 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check list aga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and ends with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2362320" y="5257800"/>
            <a:ext cx="4343400" cy="550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y the question again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6705720" y="2133720"/>
            <a:ext cx="174600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99"/>
                </a:solidFill>
                <a:latin typeface="Times New Roman"/>
              </a:rPr>
              <a:t>CONGRATULATIONS!</a:t>
            </a:r>
            <a:endParaRPr b="0" i="1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’ve shown your PREPOSITION POWE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endshow"/>
          </p:cNvPr>
          <p:cNvSpPr/>
          <p:nvPr/>
        </p:nvSpPr>
        <p:spPr>
          <a:xfrm>
            <a:off x="2133720" y="5334120"/>
            <a:ext cx="2438280" cy="5799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726160" y="1905120"/>
            <a:ext cx="3151080" cy="441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 (cont.)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286000"/>
            <a:ext cx="480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1120" y="2514600"/>
            <a:ext cx="44406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use is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wo things: mouse + t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lationship: one is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he oth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n is a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581280"/>
            <a:ext cx="19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638680" y="2590920"/>
            <a:ext cx="2133720" cy="2625120"/>
            <a:chOff x="5638680" y="2590920"/>
            <a:chExt cx="2133720" cy="26251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715000" y="3200040"/>
              <a:ext cx="2057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638680" y="2590920"/>
              <a:ext cx="1820880" cy="147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391520" y="5257800"/>
            <a:ext cx="1042920" cy="104292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2" y="20252"/>
                </a:lnTo>
                <a:lnTo>
                  <a:pt x="20252" y="13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2" y="202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0" h="21600">
                <a:moveTo>
                  <a:pt x="3755" y="3755"/>
                </a:moveTo>
                <a:lnTo>
                  <a:pt x="17845" y="10800"/>
                </a:lnTo>
                <a:lnTo>
                  <a:pt x="3755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 (cont.)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362320"/>
            <a:ext cx="5105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514600"/>
            <a:ext cx="50292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use is 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</a:rPr>
              <a:t>unde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wo things: mouse + ta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lationship: one is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und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he oth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Under is a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3505320"/>
            <a:ext cx="2362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867280" y="3809880"/>
            <a:ext cx="1897200" cy="1541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2895840" cy="28386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 (cont.)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057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list of the most common prepos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5410080"/>
            <a:ext cx="1043280" cy="104328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2" y="20252"/>
                </a:lnTo>
                <a:lnTo>
                  <a:pt x="20252" y="1348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2" y="20252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0" h="21600">
                <a:moveTo>
                  <a:pt x="3755" y="3755"/>
                </a:moveTo>
                <a:lnTo>
                  <a:pt x="17845" y="10800"/>
                </a:lnTo>
                <a:lnTo>
                  <a:pt x="3755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2819520"/>
          <a:ext cx="6857640" cy="358092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  <a:gridCol w="857160"/>
                <a:gridCol w="857160"/>
                <a:gridCol w="857160"/>
              </a:tblGrid>
              <a:tr h="70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 (exce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w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ai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2133720"/>
            <a:ext cx="78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re is a list of the most common preposition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Lesson One: Prepositions (cont.)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848720" y="5638680"/>
            <a:ext cx="1042920" cy="1043280"/>
          </a:xfrm>
          <a:custGeom>
            <a:avLst/>
            <a:gdLst>
              <a:gd name="textAreaLeft" fmla="*/ 64800 w 1042920"/>
              <a:gd name="textAreaRight" fmla="*/ 978120 w 1042920"/>
              <a:gd name="textAreaTop" fmla="*/ 64800 h 1043280"/>
              <a:gd name="textAreaBottom" fmla="*/ 97848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2" y="1348"/>
                </a:lnTo>
                <a:lnTo>
                  <a:pt x="1348" y="1348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2" y="20259"/>
                </a:lnTo>
                <a:lnTo>
                  <a:pt x="20252" y="1348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48" y="20259"/>
                </a:lnTo>
                <a:lnTo>
                  <a:pt x="20252" y="20259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9"/>
                </a:lnTo>
                <a:close/>
              </a:path>
              <a:path fill="darken" w="21600" h="21607">
                <a:moveTo>
                  <a:pt x="3755" y="3758"/>
                </a:moveTo>
                <a:lnTo>
                  <a:pt x="17845" y="10804"/>
                </a:lnTo>
                <a:lnTo>
                  <a:pt x="3755" y="17849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2819520"/>
          <a:ext cx="6934320" cy="342900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866520"/>
                <a:gridCol w="866880"/>
                <a:gridCol w="866880"/>
                <a:gridCol w="866880"/>
                <a:gridCol w="866520"/>
                <a:gridCol w="866880"/>
              </a:tblGrid>
              <a:tr h="57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 (exce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w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ai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Test Your Knowledge 1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705720" y="1981080"/>
            <a:ext cx="2181240" cy="216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2209680"/>
            <a:ext cx="708660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ord is a preposi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izza in the oven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685800" y="441972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2590920" y="441972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4419720" y="441972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6248520" y="4419720"/>
            <a:ext cx="1523880" cy="5814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838080" y="5410080"/>
            <a:ext cx="6782040" cy="4748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eck the list of preposi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 rot="20387400">
            <a:off x="228240" y="2438280"/>
            <a:ext cx="17524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RIGHT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810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things are related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preposi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You ha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EPOSITION POW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238880" y="5029200"/>
            <a:ext cx="1043280" cy="1042920"/>
          </a:xfrm>
          <a:custGeom>
            <a:avLst/>
            <a:gdLst>
              <a:gd name="textAreaLeft" fmla="*/ 64800 w 1043280"/>
              <a:gd name="textAreaRight" fmla="*/ 978480 w 1043280"/>
              <a:gd name="textAreaTop" fmla="*/ 64800 h 1042920"/>
              <a:gd name="textAreaBottom" fmla="*/ 97812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59" y="1348"/>
                </a:lnTo>
                <a:lnTo>
                  <a:pt x="1348" y="1348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59" y="20252"/>
                </a:lnTo>
                <a:lnTo>
                  <a:pt x="20259" y="1348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348" y="20252"/>
                </a:lnTo>
                <a:lnTo>
                  <a:pt x="20259" y="20252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348" y="1348"/>
                </a:lnTo>
                <a:lnTo>
                  <a:pt x="1348" y="20252"/>
                </a:lnTo>
                <a:close/>
              </a:path>
              <a:path fill="darken" w="21607" h="21600">
                <a:moveTo>
                  <a:pt x="3758" y="3755"/>
                </a:moveTo>
                <a:lnTo>
                  <a:pt x="17849" y="10800"/>
                </a:lnTo>
                <a:lnTo>
                  <a:pt x="3758" y="17845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WRONG!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506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Click here to try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1295280" y="36576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  <a:hlinkClick r:id="rId4" action="ppaction://hlinksldjump"/>
              </a:rPr>
              <a:t>Click here to check the list of prepositions before trying ag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23:57:32Z</dcterms:created>
  <dc:creator>Sara Wohltjen</dc:creator>
  <dc:description/>
  <dc:language>en-US</dc:language>
  <cp:lastModifiedBy>Cynthia Konell</cp:lastModifiedBy>
  <cp:lastPrinted>2009-04-22T19:24:48Z</cp:lastPrinted>
  <dcterms:modified xsi:type="dcterms:W3CDTF">2014-11-29T00:26:22Z</dcterms:modified>
  <cp:revision>53</cp:revision>
  <dc:subject/>
  <dc:title>Preposition Power</dc:title>
</cp:coreProperties>
</file>